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6FA42B5-4C33-450A-8107-295025A9BE2B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31B337C8-B99C-417B-8718-C358092F2F9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D719110-623F-4390-949E-2B8CC4F99E2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AFE4B70-3142-4413-A826-9B4981E2BB8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DC5D8B9-4DB6-4767-A6F3-1428915BBF3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DF02711-387F-4159-AE6D-C9321C316F3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75E2C45-6B5E-4498-B442-C842E21356C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C07E0AD-421C-425B-8357-C2C771F508F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747C09B-D563-4460-84EE-A4858CEB117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BE05CEF-39EF-4AD2-B55D-CCAEF3E4D03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BDBE8DB-1559-4EEA-BEAD-2C2783F49CB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CEC365C-43B5-4FF2-8D24-7361EF4EE12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E6F3093-CE9C-4960-81E1-7C5B8A11D5E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BB4D68-A1CA-4974-BCBE-264A7C1A0BD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F45C9AA-290C-49AE-9DF6-F1AAFA38806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AC12D02-93C3-4711-9836-38F721D6B72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5280" y="84888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1: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Line of Code Counting Standar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tement Typ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0496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is section to define how you will count various types of statements.  Consider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re you going to count procedure declarations and function prototyp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ill you count compiler directiv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you count comments?  Why or why no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1027080" y="3639960"/>
          <a:ext cx="437364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3639960"/>
                    <a:ext cx="437364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arific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612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ully operational standard generally requires many notes and com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clarification section for this purpo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905040" y="3138480"/>
          <a:ext cx="437328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3138480"/>
                    <a:ext cx="437328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Many LOC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82280" y="1439640"/>
            <a:ext cx="7545240" cy="126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C++ LOC counting standard in table 4.3 on page 79, how many LOC are in the following program fragm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93880" y="2592360"/>
            <a:ext cx="49910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include &lt;stdio.h&gt;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d main (void)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 i,j;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(i = 0; i &lt; 10; i++)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(j = 0; j &lt; 10; j++)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t &lt;&lt; i &lt;&lt; “, ” &lt;&lt; j &lt;&lt; endl;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/Sugg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2200" y="14396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tandard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228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4960" y="1439640"/>
            <a:ext cx="7635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familiar with the PSP LOC counting standard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able to develop your own LOC count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2000" y="43632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93800" y="1439640"/>
            <a:ext cx="7943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R1 are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the LOC counting standards that are appropriate for the programming language that you wil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basis for developing a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for developing a program to count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93800" y="1439640"/>
            <a:ext cx="7872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nd document a standard for counting logical LOC for the language that you will use in this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the completed standard using the format in table 4.1 (page 76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4594320" y="1353960"/>
          <a:ext cx="437364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4320" y="1353960"/>
                    <a:ext cx="43736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2280" y="433080"/>
            <a:ext cx="78138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OC Counting Standard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07840" y="1452600"/>
            <a:ext cx="3703320" cy="4649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mplate is a simplified version of the SEI measurement frame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is template to describe important i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 it to fit your needs or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496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LOC counting standar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ample is from table 4.2, page 77 in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Head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9380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the header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3"/>
          <p:cNvGraphicFramePr/>
          <p:nvPr/>
        </p:nvGraphicFramePr>
        <p:xfrm>
          <a:off x="1290600" y="3538440"/>
          <a:ext cx="619452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3538440"/>
                    <a:ext cx="61945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4"/>
          <p:cNvSpPr/>
          <p:nvPr/>
        </p:nvSpPr>
        <p:spPr>
          <a:xfrm>
            <a:off x="1401840" y="2467080"/>
            <a:ext cx="2436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ame you give this standar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433840" y="2443320"/>
            <a:ext cx="2436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language you are using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401840" y="4867200"/>
            <a:ext cx="243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722840" y="4867200"/>
            <a:ext cx="3363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ate you produced this standard (or revision)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74880" y="3067200"/>
            <a:ext cx="399960" cy="80640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9"/>
          <p:cNvSpPr/>
          <p:nvPr/>
        </p:nvSpPr>
        <p:spPr>
          <a:xfrm flipH="1">
            <a:off x="6216120" y="3041640"/>
            <a:ext cx="171720" cy="84456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0"/>
          <p:cNvSpPr/>
          <p:nvPr/>
        </p:nvSpPr>
        <p:spPr>
          <a:xfrm flipV="1">
            <a:off x="2657520" y="4245120"/>
            <a:ext cx="361800" cy="666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11"/>
          <p:cNvSpPr/>
          <p:nvPr/>
        </p:nvSpPr>
        <p:spPr>
          <a:xfrm flipH="1" flipV="1">
            <a:off x="6276600" y="4257720"/>
            <a:ext cx="95400" cy="666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nt Typ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82280" y="14396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are logical and physical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LOC counts language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LOC counts text li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is counting standard, you are counting logical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855720" y="3156120"/>
          <a:ext cx="619452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156120"/>
                    <a:ext cx="61945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Oval 5"/>
          <p:cNvSpPr/>
          <p:nvPr/>
        </p:nvSpPr>
        <p:spPr>
          <a:xfrm>
            <a:off x="2473200" y="3147840"/>
            <a:ext cx="635040" cy="571680"/>
          </a:xfrm>
          <a:prstGeom prst="ellipse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2T13:24:10Z</cp:lastPrinted>
  <dcterms:modified xsi:type="dcterms:W3CDTF">2018-09-06T00:17:02Z</dcterms:modified>
  <cp:revision>54</cp:revision>
  <dc:subject/>
  <dc:title>No Slide Title</dc:title>
</cp:coreProperties>
</file>